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AE9-482E-40C7-86A5-1B295BD0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448-0F9B-4925-89D6-7712375B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D30-F268-48BE-A514-9041AA5F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31A-DCFF-4A90-B4BF-4DA0E949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437-7487-49F1-AB83-7DF9E0E9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260C-D624-46E9-9C43-ADF2357E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B9D-6665-4F9F-B7CE-361802D5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E10B-F781-4F5F-BA76-8C8E342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BDCD-6B87-4BBD-B442-238A794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5CAB-A51D-4F51-BBA0-454E61B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BCB2-6B1A-4DFF-BD91-83D8FFA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8A3-412F-4BB8-B8A4-621AC05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FEFC-D3D6-432B-84A0-C0505CF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0EF-C537-4315-AE4D-707A9E9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340D-F15D-47BB-8D4E-671B145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F4A4-F744-41DE-9004-53A5DB99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1D27-ACB1-4371-9326-EABAE8D8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C0F-8B45-4A6A-860C-3727BCDA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E29-A900-4BE4-BD62-8A266AE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A45-3115-4D40-8BE2-23C5126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C2F-C367-4C95-A2EB-14233AF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D31-882A-4C9E-BDAC-C9195D4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FB0-9739-4A12-BB78-75214CA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904-EC35-4F8B-9895-979FCDD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F0E-039A-468D-A133-B733E022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275B-4881-4E7E-988B-FC2987C5D07F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BGP Workshop (IPv4 &amp; IPv6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Smith, Randy Bush,  Rashed 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OG 16, Paro, Bhu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- 19 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SIS”, “ISIS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 Module 1 – Basic ISIS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 for tea/coffee at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: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: 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: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, “ISIS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: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: Lab Module 1 – IPv6 ISIS and i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: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6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  Lab Module 3 – BGP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  Lab Module 3 – IPv6 BGP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  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6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un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Pv6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 and Advanced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Best Curren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6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Mon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8 – Multihom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 to RP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and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6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07-18T02:29:10Z</dcterms:modified>
  <cp:revision>67</cp:revision>
  <dc:subject>ISP/IXP Workshops Asia Pacific</dc:subject>
  <dc:title>ISP/IXP Workshop Agenda</dc:title>
</cp:coreProperties>
</file>