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2E3-9BB4-4707-9145-1E4D6FBF54D1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p in IP hade 64 adresser och planen var att använda olika nät för global och lokal rout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Pv5 var redan använt för streaming protokollet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sien / europa är drivande. Inget sikte av att 3G skulle driva detta så fort man trott, men mycket av utvecklingen sker dä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tora delar av /8 delades ut till stora företag som IBM, HP, BB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/16 delades ut godtyckligt och of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Oron basead på trend analys av IP adress utdel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dress plan baserad på 1960-1970 talets plan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IDR krävde också ändringar till routingprotoko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Ändrat och laggt till _NY_ adres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Kritik av 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ånga ansåg att det hade en stor installe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en hade många barn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yttjandegraden kring 1996 var 4% av tillgängliga adresser, tanken var att man skulle kunna fortsätta. Idag ligger vi runt 40-5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1F8-48A9-424F-A1D7-7371011A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9D3-1BCA-4E61-A550-2678601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80B-9009-4592-B28A-7DCB7969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3DF-166D-4C9D-9CFF-012A0860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C79-03C2-4277-BD9A-82527CF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345-907B-4AA9-8678-956950C6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C5A-DA6F-4183-8B51-B45DF2F0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4D8-C029-4853-94CE-C5A46ED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0EB-1BF1-40A4-ABB6-DEF2C40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E67-4A13-469C-AD76-08141A3D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89D-9D2A-4117-8CC5-E72ECAB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7B2-C696-4F8A-AF3F-30358C3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2C04-9814-4C46-822D-1806F95CBCA2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rt Erik Lindqv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rtis@kurtis.pp.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6D8-2AAA-4F20-9987-834E6523EF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proposals was m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7: TP/IX by Robert Ul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so wanted to change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 compatible with IP, CLNP and 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 in IP: A mix of proposals, among others Steve Deerings SIP, PiP and I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Png working group decided in June 1994 to use IP in IP as the base of the new prot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address size was increased to 128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w proposal was called 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986-C8F3-448D-A8CD-0108C90B99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- 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55E-A30F-4D13-81FC-4EE8276B216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 - 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41880" cy="48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25-3847-43B1-B2E0-AE83F4CC58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long will the IPv4 addresses l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will address policy be affected by 3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by other “mass-application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AAB-7282-463C-A846-DD3CDED280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v6 Design and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ition from IPv4 to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v6 and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this g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84F-396B-46C7-A796-155BB89F04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efore we star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++++++++++++++++++++++++++++++++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fix (24 bitar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++++++++++++++++++++++++++++++++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DR = Classless Inter Domain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thing else on IPv4 and ro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7E2-3433-4AB7-8AD7-D14DC1FEDD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3E4-4B19-42D1-9A4F-39F907D0C7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iginal IPv4 addresses was not not CID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the size of the address blocks where divided into classes; A (/8), B (/16) and C (/24) - which would correspond to different users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locks was originally handed out arbitrarily - especially in the ”B”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early 90s this lead to serious concern that we would run out of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C39-5C5A-45C7-9721-39542A2F39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0232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751-7C9F-4A71-AC5F-62284BCA87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80840" cy="755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763-7934-4873-9EB2-076B227D1EE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irst step was to introduce CI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a assigned address block could have arbitrary prefix-leng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arallel effort was started in 1992 to find a new addressing model fo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irst suggestion was based on ISOs OS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spread resistance led to the suggestion being with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716-3959-437C-836F-150FAF2112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ground of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July 1992 the IETF decided that in order to move forward, a estimate of the future size of the Internet w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20 : 10 Bill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 computers p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to give margin for poor utilisation and error, it was decided that we needed address space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^15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^12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26F-15A7-4D30-8AD5-5794233708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6:36:00Z</dcterms:created>
  <dc:creator>Kurt Erik Lindqvist</dc:creator>
  <dc:description/>
  <dc:language>en-US</dc:language>
  <cp:lastModifiedBy>Kurt Erik Lindqvist</cp:lastModifiedBy>
  <cp:lastPrinted>2002-10-06T12:13:13Z</cp:lastPrinted>
  <dcterms:modified xsi:type="dcterms:W3CDTF">2003-01-19T21:32:06Z</dcterms:modified>
  <cp:revision>32</cp:revision>
  <dc:subject/>
  <dc:title>Grundläggande IPv6</dc:title>
</cp:coreProperties>
</file>