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4AC-6C22-438B-AF60-6AD31A8D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04E-0B77-4505-84A9-6325C7A5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AE6-4B40-4D08-98BB-A36CABEB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236-A86B-41E5-AE9D-26D20D7C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0B8-CCDE-486D-A6C0-543727C5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58F-10CE-4EA8-A01C-D45F4784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1A2-B3D8-4871-8F24-705C194C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BEC-4BEB-46D0-9508-7518FAAE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2C1-283F-4FF4-84D0-DE924A27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F6E-6571-452E-A91B-EB7FD28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712-6711-40AE-AB6A-DB8DB36A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B23-81F8-4A41-8841-634B4486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5FF8-D92C-4814-9B3F-591307E19AE0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principle the same routing protocols and mechanims as for IPv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IPng, IS-IS and OSPF for I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GP for E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D1B-BEA3-46F8-BE0E-E335E13668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routing - IG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P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fied for the longer IPv6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FC2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draft existis for handling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rinciple two new TL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irst IGP for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A21-A527-471D-91E5-48CCFC78A8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IPv6 routing - EG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GP-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andeles IPv6 prefic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aves as ”ordinary” 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with business as usual is that nothing is done to stop the growth of the default fre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ETF muti6 WG exists to investigate alternative ways of doing multih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st or router based? Or bo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53360" y="608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A26-290B-49D4-BA2A-733FCB4EA2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IPv6 routing - BGP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router bgp 32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o synchro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bgp log-neighbor-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eighbor ipv6-peer peer-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o neighbor ipv6-peer 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eighbor 2001:670:87:3001:: remote-as 7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o neighbor 2001:670:87:3001:: 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eighbor 2001:670:87:3001::10 remote-as 12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o neighbor 2001:670:87:3001::10 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!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address-family 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eighbor ipv6-peer 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eighbor ipv6-peer route-map ipv6-peer-in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eighbor ipv6-peer route-map ipv6-peer-out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eighbor 2001:670:87:3001:: peer-group ipv6-pe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eighbor 2001:670:87:3001::10 peer-group ipv6-pe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network 2001:670:87::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Courier New"/>
              </a:rPr>
              <a:t>exit-address-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986-E4CA-43D4-AD4C-C8B25B6658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0:38:51Z</dcterms:created>
  <dc:creator>Kurt Erik Lindqvist</dc:creator>
  <dc:description/>
  <dc:language>en-US</dc:language>
  <cp:lastModifiedBy>Kurt Erik Lindqvist</cp:lastModifiedBy>
  <dcterms:modified xsi:type="dcterms:W3CDTF">2003-01-19T21:41:59Z</dcterms:modified>
  <cp:revision>11</cp:revision>
  <dc:subject/>
  <dc:title>Routing</dc:title>
</cp:coreProperties>
</file>