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11A-A14E-4131-8322-DC765A9E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8153-E07E-4E80-8C5A-0CACE18A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6E6-03CF-4568-81DF-A8D6662E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C84E-8369-41B9-A46F-D15506CD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2109-98A4-470B-963B-DDA21B20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C3E-E711-46E4-B960-FEBB87E2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CF83-E592-4F58-9062-B2864CAA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842-4824-49E4-B330-B7131148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3599-85BA-4262-B023-FA46F441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7B5-DCE4-46BB-BE7C-FDC6235F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9DB3-E44C-4193-B772-DC874B20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A61-987E-4A40-BC26-49ABD29B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875F-ED4B-4F1D-90A5-BBEB2726371D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urtis.pp.se/" TargetMode="External"/><Relationship Id="rId2" Type="http://schemas.openxmlformats.org/officeDocument/2006/relationships/hyperlink" Target="http://www.kurtis.pp.se/" TargetMode="External"/><Relationship Id="rId3" Type="http://schemas.openxmlformats.org/officeDocument/2006/relationships/hyperlink" Target="http://www.kurtis.pp.se/" TargetMode="External"/><Relationship Id="rId4" Type="http://schemas.openxmlformats.org/officeDocument/2006/relationships/hyperlink" Target="http://www.kurtis.pp.se/" TargetMode="External"/><Relationship Id="rId5" Type="http://schemas.openxmlformats.org/officeDocument/2006/relationships/hyperlink" Target="http://www.kurtis.pp.se/" TargetMode="External"/><Relationship Id="rId6" Type="http://schemas.openxmlformats.org/officeDocument/2006/relationships/hyperlink" Target="http://www.kurtis.pp.se/" TargetMode="External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and D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NS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53360" y="608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2057400"/>
            <a:ext cx="114300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2819520"/>
            <a:ext cx="114300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819520"/>
            <a:ext cx="114300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2819520"/>
            <a:ext cx="114300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276720" y="24382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2438280"/>
            <a:ext cx="198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4382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3657600"/>
            <a:ext cx="114300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3657600"/>
            <a:ext cx="114300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800600"/>
            <a:ext cx="114300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ur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4800600"/>
            <a:ext cx="114300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638680"/>
            <a:ext cx="114300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ACEA-AB52-4764-A3AE-CBD402C4BD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NS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6080" y="990720"/>
            <a:ext cx="51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address is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kurt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.pp.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$ nslookup www.kurtis.pp.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9360" y="3597120"/>
            <a:ext cx="1295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082520" y="1752120"/>
            <a:ext cx="517680" cy="17686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720" y="4968720"/>
            <a:ext cx="1447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me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1640" y="4054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64160" y="3444840"/>
            <a:ext cx="114300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53920" y="3673440"/>
            <a:ext cx="373392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463760" y="3825720"/>
            <a:ext cx="36576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64160" y="4206960"/>
            <a:ext cx="114300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64160" y="4816440"/>
            <a:ext cx="114300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64160" y="5578560"/>
            <a:ext cx="114300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ur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90920" y="336852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. IN 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844640" y="4358880"/>
            <a:ext cx="28954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844640" y="4587840"/>
            <a:ext cx="32767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44640" y="5349960"/>
            <a:ext cx="32767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463760" y="5425560"/>
            <a:ext cx="32004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75080" y="41148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p IN N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4000" y="472428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urtis IN 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26040" y="52578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w IN A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w IN AAAA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13240" y="1981080"/>
            <a:ext cx="652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Courier New"/>
                <a:hlinkClick r:id="rId4"/>
              </a:rPr>
              <a:t>www.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Courier New"/>
                <a:hlinkClick r:id="rId5"/>
              </a:rPr>
              <a:t>kurtis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Courier New"/>
                <a:hlinkClick r:id="rId6"/>
              </a:rPr>
              <a:t>.pp.s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internet address = 195.43.225.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ww.kurtis.pp.se  IPv6 address = 2001:670:87:3001::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600200" y="2666880"/>
            <a:ext cx="11430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C1A-C5B4-4B70-AB39-BD99D2AEFE7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w RR for IPv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AAA is used as the current A RR, I.e for forward lookup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ww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95.43.225.69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AAA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2001:670:87:3001::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BE88-C51F-4C16-9D5D-C07DF088EF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w RR for IPv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TR used as usual for reverse 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el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2001:670:87:3001::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one 1.0.0.3.7.8.0.0.0.7.6.0.1.0.0.2.ip6.ar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.0.0.0.0.0.0.6.0.0.0.0.0.0.0.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TR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www.kurtis.pp.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9299-6964-4E98-BB3D-809644A37A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and D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verse-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-addr.arpa. for IPv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6.int. Old zone for reverse 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6.arpa. New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Zones are divided on a 4-bits bound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legation is done as u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Your ISP will register the delegation with RIPE / AP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ED0-8837-4552-8CCB-E66E364E23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54:44Z</dcterms:created>
  <dc:creator>Kurt Erik Lindqvist</dc:creator>
  <dc:description/>
  <dc:language>en-US</dc:language>
  <cp:lastModifiedBy>Kurt Erik Lindqvist</cp:lastModifiedBy>
  <dcterms:modified xsi:type="dcterms:W3CDTF">2003-01-19T21:31:21Z</dcterms:modified>
  <cp:revision>14</cp:revision>
  <dc:subject/>
  <dc:title>IPv6 och DNS</dc:title>
</cp:coreProperties>
</file>