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841-9856-4E21-9AFC-97DCF6BA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655-A1BE-46CB-99DA-79FFCE6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F66-83D4-402D-9F43-9220C5E0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01F-C937-4A96-AB2F-932C73D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5D7-6FC5-4A1F-8449-5FAB2EA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9B1-50A8-471B-8B3E-01B5B2C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AF2-A159-49F2-8085-7736C42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F15-8FA5-4C6D-894E-DDECA196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727-E414-496D-8D50-ABDABEC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3E-D6CF-41BE-BACF-27EF90E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EC4-6D90-4BEC-8E7E-980804E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7CC-647E-4752-AC12-D1D79AE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631-C3F0-4A05-B0C1-8DCF785552E0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ransition from IPv4 till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unnels exampel - Router-to-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The router side looks the sa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Host (FreeBSD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$ ifconfig gif0 inet 194.112.11.163 195.43.225.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$ ifconfig gif0 inet6 2001:670:87:3001::6 prefixlen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$ route add -inet6 2001:670:87:3001::4 -prefixlen 126 -interface gi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$ route add -inet6 default 2001:670:87:3001: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DB8-260E-44D7-9141-7CE503170C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unnels exampel - Router-to-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$ ifconfig gi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gif0: flags=8010&lt;POINTOPOINT,MULTICAST&gt; mtu 1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net 194.112.11.163 --&gt; 195.43.225.65 netmask 0xffffff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net6 2001:670:87:3001::6 --&gt; :: prefixlen 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BC3-F191-42E0-A49B-0DBA72A170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transi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s ICMP to translate IPv4 - IPv6 through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-P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itional NAT/PT but instead of doing RFC1918 translation, IPv4/IPv6 is trans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 / Application Layer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rinciple a proxy per service ; Web, Mai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9F9-7AA1-4122-AA48-57AD34F5FF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How do I do a native configurait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nterface FastEtherne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p address 195.43.225.65 255.255.255.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p pim sparse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speed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half-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pv6 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pv6 address 2001:670:87:1::/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ipv6 nd prefix-advertisement 2001:670:87:1::/64 300 300 auto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urier New"/>
              </a:rPr>
              <a:t>no cdp 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72E-BD6F-4146-A33D-6DD6D0CD38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Stack - The easy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53360" y="608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895480"/>
            <a:ext cx="16761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4 API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895480"/>
            <a:ext cx="16765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API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4267080"/>
            <a:ext cx="3352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514600"/>
            <a:ext cx="3352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133720"/>
            <a:ext cx="3352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BF0-E89A-4E8C-AB7A-0F03D923CC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sy to remove IPv4 once all applications support IPv6 and transport have proved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sy network design - it’s either IPv4 or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NS problem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s IPv6 end-to-end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F54-AD8A-4769-8BFC-4BBB41F4D6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6to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6to4 a IPv4 address is mapped to a IPv4 addr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defined prefixet is 2002::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581280"/>
            <a:ext cx="6781680" cy="609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35812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5812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5812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3657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8320" y="3657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0080" y="36576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4 A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8200" y="36576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6920" y="365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fac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4920" y="417528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    13     32                      16        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257-8BB0-49F6-AD0A-97BAB56E9B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to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276720"/>
            <a:ext cx="12956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7880" y="44877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2:192.168.1.1.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IP: 2002:192.168.1.1.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IP: 2002:10.0.0.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9320" y="23464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68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40480" y="2362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105520"/>
            <a:ext cx="3124080" cy="53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18440" y="454824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IP: 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IP: 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5334120"/>
            <a:ext cx="3124440" cy="53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IP: 2002:192.168.1.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IP: 2002:10.0.0.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572000"/>
            <a:ext cx="3276360" cy="1371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886200"/>
            <a:ext cx="3124440" cy="533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IP: 2002:192.168.1.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IP: 2002:10.0.0.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4872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360" y="16765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2:10:0:0:1:0:1: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E37-0B75-41C0-8564-72C3D3FD2E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signment of IPv4 global addresses to IPv6 Hosts (AII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276720"/>
            <a:ext cx="12956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5760" y="4267080"/>
            <a:ext cx="2523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::192.1.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::C001:0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0:0:0:0:0:0:C001:0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80A-536A-42CD-94EB-E5054D707F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3276720"/>
            <a:ext cx="12956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352680"/>
            <a:ext cx="838440" cy="30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276720"/>
            <a:ext cx="12952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12956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362320"/>
            <a:ext cx="838080" cy="304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146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4343400"/>
            <a:ext cx="12956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419720"/>
            <a:ext cx="838080" cy="304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7339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5028840" y="2286000"/>
            <a:ext cx="12953160" cy="18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1" y="0"/>
                </a:moveTo>
                <a:arcTo wR="10800" hR="10800" stAng="-5386919" swAng="5386919"/>
                <a:lnTo>
                  <a:pt x="10800" y="10800"/>
                </a:lnTo>
                <a:close/>
              </a:path>
              <a:path fill="none" w="21600" h="21600">
                <a:moveTo>
                  <a:pt x="10841" y="0"/>
                </a:moveTo>
                <a:arcTo wR="10800" hR="10800" stAng="-5386919" swAng="5386919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800600" y="3733920"/>
            <a:ext cx="12648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940-CDA3-40F3-B33E-B9FF4461B6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s can be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 Permanently config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l-on-dem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nnels will be brougt up whe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s can be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-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-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er-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23B-4652-481E-B77B-616509C864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unnels exampel - Router-to-Ro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pv6 unicast-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nterface Tunnel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description TO KQ 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pv6 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pv6 address 2001:670:87:3001::1/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tunnel source 195.43.225.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tunnel destination 193.94.250.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tunnel mode ipv6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tunnel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urier New"/>
              </a:rPr>
              <a:t>ipv6 route ::/0 Tunnel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27B-1732-4426-93C2-CD5415CE6A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44:44Z</dcterms:created>
  <dc:creator>Kurt Erik Lindqvist</dc:creator>
  <dc:description/>
  <dc:language>en-US</dc:language>
  <cp:lastModifiedBy>Kurt Erik Lindqvist</cp:lastModifiedBy>
  <dcterms:modified xsi:type="dcterms:W3CDTF">2003-01-19T21:31:16Z</dcterms:modified>
  <cp:revision>22</cp:revision>
  <dc:subject/>
  <dc:title>Transition från IPv4 till IPv6</dc:title>
</cp:coreProperties>
</file>