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6BF-63C2-4545-B21F-6A22BC82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F81-A060-44E6-B64B-5E2B2F99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C71-9EC4-437F-AC02-CA4BE37E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A55-2FEF-4344-92B4-481BB72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66-A62F-4E0A-AF8B-977B92C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DCC-5ED3-42AC-8B36-3EA06FA4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A9B-4CCE-4AD1-A800-627ABAC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B88-A8A0-4874-8659-9A7449D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D02-027A-4F81-958B-4249532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A4F-359F-4E35-904E-DB0DD8F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112-A430-4FA2-B722-8BE4A3D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2FB-E153-4BFC-8F75-FD5AF66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335-120C-41E8-8704-B3D34ED48FB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Pv6 and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uto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HC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”usual” DHCP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ost will build a link-local address of it’s interface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ers announce the link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pv6 nd prefix-advertisement 2001:670:87:1::/64 300 300 auto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DA3-8CA2-413E-A445-77CB01B91F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systems -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ed 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erically supported 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53360" y="608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517-C197-428C-9DD9-87DA7E8BB1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systems - 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etB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AME stack from v1.5 Dec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FreeB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AME stack from v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penB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From v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From v2.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1i, Aug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v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IRIX 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256-157B-4EFA-9206-FC70726AB6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Operating systems -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BM S/390 M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pple MacO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0BB-DAE7-4D18-AE5C-B30B0E2690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 with IPv6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ince v11.0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Comercially supported since  IOS 12.2(2)T, Ma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xtrem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itat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o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ince IPSO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or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ince BayRS v1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Junip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ince JUNOS 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F90-FFD5-4681-B498-A58C58E0CE3F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DNS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9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2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B70-AF7C-4D4F-A524-AF55B2979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TP-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end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ost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A8D-ECF5-4D9E-ADC8-52BFEF12C7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/IMAP -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Courier-i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Qp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Cyrus-ima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D44-6042-401D-8E9A-7A4DF43429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8F5-C402-4973-A87B-04A60876FA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1:07:36Z</dcterms:created>
  <dc:creator>Kurt Erik Lindqvist</dc:creator>
  <dc:description/>
  <dc:language>en-US</dc:language>
  <cp:lastModifiedBy>Kurt Erik Lindqvist</cp:lastModifiedBy>
  <dcterms:modified xsi:type="dcterms:W3CDTF">2003-01-19T16:50:14Z</dcterms:modified>
  <cp:revision>17</cp:revision>
  <dc:subject/>
  <dc:title>IPv6 och applikationer</dc:title>
</cp:coreProperties>
</file>