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B20F-E66C-4A1C-9F32-8C3C4D4DD86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re money from our custo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ss money to our vend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2EB3-7978-4F21-AC10-F02A75AB4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9C11-730A-47C3-A0D6-4CD2063D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B07E-EB17-4181-B27B-2C3A8BC15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801A-51AE-4A78-867D-3FD429E1A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DCE4-C45B-454D-8413-8D373E2C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C6EB-BCD2-48B7-A9F7-FEB11B7F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6958-CB37-417A-9688-9DEE79E1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1718-A59C-4A52-A4ED-4899DFAD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7630-2703-4704-8F8B-7C651409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C72F-F516-45E6-9C25-A3D99BAB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F3E4-CC7E-40C0-80E1-47DEDB12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3BA4-DCD7-42D3-B97C-ABCC2F7B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2720-3930-4508-B97D-62AF7799410F}" type="slidenum"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Is this a good th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st of todays QoS problems reflect poor business models at the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operators have sold more bandwidth than they have at a too low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oS in a backbone is solved through enough bandwid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hing really specified for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40D7-F8CC-452F-A369-823A658D62E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etwork s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 are today running data over the Internet that noone had imag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M-1 based IP-VPNs are running medical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outing software have been around for 10 years and is still not s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Pv6 is still very young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3EFF-3FF3-44E0-9AF8-97A943D2AC4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happened with “money”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3352680"/>
            <a:ext cx="815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need “content”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3 Internet Technology Adviso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4C4D-061A-4EF6-B59C-CCC10888D23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n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one have ever made money on the Interne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r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 need a “killer” applicatio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ing is not all that interesting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is is that I can do over IPv6 that I can not do over IPv4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er-to-Pe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could do it already today unless we kept blocking the end-to-end principl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 it is not really the applications in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the conte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4D75-7DA3-43ED-AB30-DF1B0050175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ne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IPv6 will follow the business model of IPv4 we will need to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rt with the same bandwidth as we did with IPv4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sider IPv6 as mnarketing or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C359-D468-4796-8399-1ACC7AFFAEE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driving forces behind IPv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address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 will first happen at the 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 might not give us ROI from day 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ut IPv6 will happen so we need to prepareand lea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customer demand is  rise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B72E-3EB5-4164-B037-B5528E2D6DA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024080" y="227340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3 Internet Technology Advisor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709B-EA34-439F-ABCB-C58DC9A52FA8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is the driving force for an operator to launch a new technolog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3 Internet Technology Adviso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4544-04C5-47C3-B101-8D4A923EEBD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971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ne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3 Internet Technology Adviso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CFAC-1153-424A-BAB6-F288CB51D3B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What does people in general seem to think that IPv6 will solv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 shortage of addres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Give us Q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Make route lookups fas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3D4D-2396-4F71-B01E-0B2B00D3206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me of the problems that the operators are see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outing sca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imes New Roman"/>
              </a:rPr>
              <a:t>The growth of the routing tabl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imes New Roman"/>
              </a:rPr>
              <a:t>Convergence tim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rdware sca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blems with creating end-to-en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twork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D10B-7DD3-4242-9948-10D6C21B4AC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19807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blems and solutions do not match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01280" y="3886200"/>
            <a:ext cx="681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nd it is questionable if any of them wil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generate more mone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3 Internet Technology Adviso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9033-7CE1-43A8-895E-D3016CC427B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address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st operators seems to think that this is more of a policy problem than a problem with the architectu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You can question if this is true or no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ut all agree that this will be a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Pv6 will help us - This is one of the primary reasons it was c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Pv6 will make address assignment eas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90D3-13F2-4749-910D-49AC9890FD2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growth of the routing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bgp-history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6781680" cy="508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3 Internet Technology Adviso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B3A5-082D-413F-930F-A689018AAFD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growth of the routing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operators like IPv6 so much that they use the same operating proceedures for IPv6 as for IPv4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 not always with the best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magine the previsous picture with 128-bit add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Cisco CEF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 idea was that IPv6 would make route lookups faste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need multi6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A58F-F0BA-4FAE-BE20-17C858EA001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21:03:50Z</dcterms:created>
  <dc:creator>Kurt Erik Lindqvist</dc:creator>
  <dc:description/>
  <dc:language>en-US</dc:language>
  <cp:lastModifiedBy>Kurt Erik Lindqvist</cp:lastModifiedBy>
  <dcterms:modified xsi:type="dcterms:W3CDTF">2003-01-19T17:09:58Z</dcterms:modified>
  <cp:revision>34</cp:revision>
  <dc:subject/>
  <dc:title>Examining the Driving Forces Behind IPv6 Roll-out </dc:title>
</cp:coreProperties>
</file>